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1F9-B1E3-4DCF-8607-8FF42B64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B54-A44B-40F1-82B5-A5C2D88A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895-364B-4407-B61D-93C6C6B0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97C-B14A-44FD-AAAC-671725C5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1B9-8A10-435D-BF32-6A10F61F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745-B5D1-4FBC-B0F5-AB018F63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896-248D-42F3-9AAD-FCC5149B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850-71CC-4F31-BB3C-386E4A5E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F37-588C-4F62-AA62-1F23A8F9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F28-406B-4C3D-8BB1-7360CA43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024-ED63-4396-AE39-D8F2F3B6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0C8-B57C-437F-836C-3F94EFEB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6122-68CF-4B8E-A2A5-35CE50D00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3505320"/>
            <a:ext cx="7162920" cy="243828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2590920"/>
            <a:ext cx="7162920" cy="83808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838080"/>
            <a:ext cx="7162920" cy="167652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7668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@ Arthropod Genomic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806600" y="14983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8174520" y="2812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78000" y="990720"/>
            <a:ext cx="4527720" cy="487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27360" y="838080"/>
            <a:ext cx="5654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rsday 7-9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ntributions to Genom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Elsik, Christopher Childers, Darren H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16240" y="1668600"/>
            <a:ext cx="6067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7:30-9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o Databases and Integration with GMO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in, Dave C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0" y="2590920"/>
            <a:ext cx="579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11:25-11:45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ated arthropod genes and ways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8021520" y="4423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63000" y="3505320"/>
            <a:ext cx="4730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5-6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ative annotation of Drosophilid dicistronic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4041720"/>
            <a:ext cx="6340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10-11:30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lete System For Community Genome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: Database Resources for Emerging Model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ive genomics and database construction for Lepidop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cated Arthropod genes, and ways to find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Base: A genome resource for arthropod vectors of human patho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ectorBase Manual and Community Annotation Submission 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erflyBase: A framework for comparative genomics in butterflies and mo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6019920"/>
            <a:ext cx="3429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Got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2240" y="5791320"/>
            <a:ext cx="1255680" cy="92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960" y="762120"/>
            <a:ext cx="1340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le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tl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i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conius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Annot-L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08-04-09T18:43:59Z</cp:lastPrinted>
  <dcterms:modified xsi:type="dcterms:W3CDTF">2008-04-09T18:44:14Z</dcterms:modified>
  <cp:revision>12</cp:revision>
  <dc:subject/>
  <dc:title>PowerPoint Presentation</dc:title>
</cp:coreProperties>
</file>